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27B7-C1F1-4228-88D8-DE1364E0BC9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5EDD-8255-4178-A553-47E8AFDD09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8883-8D9A-4526-86DF-B83417DD6F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D94-01E4-4A72-B75F-B8024712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6E9-32B5-4507-B8C5-5B859A0A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D18-525F-4E84-AF8D-FC3E5A1B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DC9-E3EE-4E8D-AB23-01AD3C43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F2F2-26CF-4359-AEE0-67EDC90C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03CD-2E4B-43FF-9FC4-674E8420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9C3E-0801-4359-8DC3-F74568F1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0508-0951-4DE0-8F17-400D694E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458C-38A9-412E-849F-0D7A3CE4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9F7F-EFFE-4753-8BC6-9AC069EA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94C4-E57F-4FAA-BDB0-C9361E67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9F8-8848-4476-8E83-6D2BDFEF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1A76-C51E-4F05-B82F-739E5178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3B3B-FBF6-4161-A578-6B0FCBA4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B48E-B85D-41B2-A95C-A47AE021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2851-96A0-4513-96C7-0D273566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876D-88E7-418D-9B3D-8E5A75B0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D4C-77EB-40F5-8203-41769E56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3AC-8BAD-446D-8DC2-D1E9BC03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A09-A518-4398-8C51-02710B71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2EA-A5B1-4128-AF09-22B5463F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FC7-82B6-4B32-8F77-258B3060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72A-578A-4C36-81E1-828F3514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E4C-F78A-49D7-8D26-73524108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E69E-FED8-49D4-A938-2F7D6554F545}" type="datetime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BF1D-4016-48BB-9AF8-54E86EF6B448}" type="slidenum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9AA8-133D-49A5-86B2-A57090DDFB51}" type="datetime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1A25-CC99-433F-B3EC-BB2A5740EDDE}" type="slidenum">
              <a:rPr b="0" lang="lv-LV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2f5897"/>
                </a:solidFill>
                <a:latin typeface="Palatino Linotype"/>
              </a:rPr>
              <a:t>Pension system in Latvia 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Jana Muizniece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Ministry of Welfare of Latvia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200" spc="-1" strike="noStrike">
                <a:solidFill>
                  <a:srgbClr val="898989"/>
                </a:solidFill>
                <a:latin typeface="Century Gothic"/>
              </a:rPr>
              <a:t>Riga, 18</a:t>
            </a:r>
            <a:r>
              <a:rPr b="0" i="1" lang="en-US" sz="2200" spc="-1" strike="noStrike" baseline="30000">
                <a:solidFill>
                  <a:srgbClr val="898989"/>
                </a:solidFill>
                <a:latin typeface="Century Gothic"/>
              </a:rPr>
              <a:t>th</a:t>
            </a: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 </a:t>
            </a:r>
            <a:r>
              <a:rPr b="0" i="1" lang="lv-LV" sz="2200" spc="-1" strike="noStrike">
                <a:solidFill>
                  <a:srgbClr val="898989"/>
                </a:solidFill>
                <a:latin typeface="Century Gothic"/>
              </a:rPr>
              <a:t>December</a:t>
            </a:r>
            <a:r>
              <a:rPr b="0" i="1" lang="en-US" sz="2200" spc="-1" strike="noStrike">
                <a:solidFill>
                  <a:srgbClr val="898989"/>
                </a:solidFill>
                <a:latin typeface="Century Gothic"/>
              </a:rPr>
              <a:t>, 201</a:t>
            </a:r>
            <a:r>
              <a:rPr b="0" i="1" lang="lv-LV" sz="2200" spc="-1" strike="noStrike">
                <a:solidFill>
                  <a:srgbClr val="898989"/>
                </a:solidFill>
                <a:latin typeface="Century Gothic"/>
              </a:rPr>
              <a:t>4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9449-36C6-466F-9725-874A9DE6A12C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60344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F24F-859B-4E4B-B143-0C5965DCDE88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8" name="Content Placeholder 6" descr=""/>
          <p:cNvPicPr/>
          <p:nvPr/>
        </p:nvPicPr>
        <p:blipFill>
          <a:blip r:embed="rId2"/>
          <a:stretch/>
        </p:blipFill>
        <p:spPr>
          <a:xfrm>
            <a:off x="262080" y="1573200"/>
            <a:ext cx="5803920" cy="461952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5" descr=""/>
          <p:cNvPicPr/>
          <p:nvPr/>
        </p:nvPicPr>
        <p:blipFill>
          <a:blip r:embed="rId3"/>
          <a:stretch/>
        </p:blipFill>
        <p:spPr>
          <a:xfrm>
            <a:off x="5894280" y="1627200"/>
            <a:ext cx="33051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8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57200" y="1052640"/>
          <a:ext cx="8229600" cy="593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332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2014 half-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131148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917,5 thousand active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participants (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9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 of economically active populatio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in 2013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70164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ntribution 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 in 201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 (5% in 2015, 6% from 20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100656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.9 billions euro (7,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% of GDP 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 20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70164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accumulation per one particip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500 eur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100656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ctual rate of return in 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last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+ 4.04% (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 guaranteed rate of retur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396720"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vestment in Latv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</a:tbl>
          </a:graphicData>
        </a:graphic>
      </p:graphicFrame>
      <p:sp>
        <p:nvSpPr>
          <p:cNvPr id="132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685F-67E9-4F9C-982D-EF2FE7D6EA94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688000" cy="509256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A294-6924-45A1-93FB-DDFE83037DA9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27160"/>
          </a:xfrm>
          <a:prstGeom prst="rect">
            <a:avLst/>
          </a:prstGeom>
          <a:ln w="0">
            <a:noFill/>
          </a:ln>
        </p:spPr>
      </p:pic>
      <p:pic>
        <p:nvPicPr>
          <p:cNvPr id="137" name="Content Placeholder 3" descr=""/>
          <p:cNvPicPr/>
          <p:nvPr/>
        </p:nvPicPr>
        <p:blipFill>
          <a:blip r:embed="rId2"/>
          <a:stretch/>
        </p:blipFill>
        <p:spPr>
          <a:xfrm>
            <a:off x="347760" y="1579680"/>
            <a:ext cx="8394480" cy="466884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3444-A68A-4E75-9450-DF35BA4196A9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8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57200" y="1052640"/>
          <a:ext cx="8229600" cy="4927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2014 half-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131364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27 thousand participants (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2.8%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of economically active populatio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in 2013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7038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51 million euro (1% of GDP in 20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70380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accumulation per one particip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110 eur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10087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ctual rate of return in 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last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+ 4.37% (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 guaranteed rate of return</a:t>
                      </a: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39888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vestment in Latv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  <p:sp>
        <p:nvSpPr>
          <p:cNvPr id="141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4EA7-BDD1-48AD-813E-3545CA97D827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3" descr=""/>
          <p:cNvPicPr/>
          <p:nvPr/>
        </p:nvPicPr>
        <p:blipFill>
          <a:blip r:embed="rId1"/>
          <a:stretch/>
        </p:blipFill>
        <p:spPr>
          <a:xfrm>
            <a:off x="353880" y="128520"/>
            <a:ext cx="8448840" cy="511200"/>
          </a:xfrm>
          <a:prstGeom prst="rect">
            <a:avLst/>
          </a:prstGeom>
          <a:ln w="0">
            <a:noFill/>
          </a:ln>
        </p:spPr>
      </p:pic>
      <p:pic>
        <p:nvPicPr>
          <p:cNvPr id="143" name="Diagram 2" descr=""/>
          <p:cNvPicPr/>
          <p:nvPr/>
        </p:nvPicPr>
        <p:blipFill>
          <a:blip r:embed="rId2"/>
          <a:stretch/>
        </p:blipFill>
        <p:spPr>
          <a:xfrm>
            <a:off x="384120" y="974880"/>
            <a:ext cx="8107560" cy="516384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6708-A0FC-4938-862A-3A6E37646D8C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1620720" y="19080"/>
            <a:ext cx="6201000" cy="1438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224000" y="981000"/>
            <a:ext cx="6588000" cy="587700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3C5B-2384-48F7-B64B-584D32D6AB8A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1817640" y="2349360"/>
            <a:ext cx="593640" cy="287640"/>
          </a:xfrm>
          <a:custGeom>
            <a:avLst/>
            <a:gdLst>
              <a:gd name="textAreaLeft" fmla="*/ 86760 w 593640"/>
              <a:gd name="textAreaRight" fmla="*/ 506880 w 59364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594067" h="288036">
                <a:moveTo>
                  <a:pt x="0" y="144018"/>
                </a:moveTo>
                <a:lnTo>
                  <a:pt x="0" y="144018"/>
                </a:lnTo>
                <a:cubicBezTo>
                  <a:pt x="0" y="223556"/>
                  <a:pt x="132986" y="288036"/>
                  <a:pt x="297034" y="288036"/>
                </a:cubicBezTo>
                <a:cubicBezTo>
                  <a:pt x="461081" y="288036"/>
                  <a:pt x="594068" y="223556"/>
                  <a:pt x="594068" y="144018"/>
                </a:cubicBezTo>
                <a:cubicBezTo>
                  <a:pt x="594068" y="64479"/>
                  <a:pt x="461081" y="0"/>
                  <a:pt x="297034" y="0"/>
                </a:cubicBezTo>
                <a:cubicBezTo>
                  <a:pt x="132986" y="0"/>
                  <a:pt x="0" y="64479"/>
                  <a:pt x="0" y="144017"/>
                </a:cubicBezTo>
                <a:lnTo>
                  <a:pt x="0" y="144018"/>
                </a:lnTo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901800" y="291960"/>
            <a:ext cx="7613640" cy="131148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7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55BC-7345-434D-9E64-5FC63BFED15B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52" name="Content Placeholder 4"/>
          <p:cNvGrpSpPr/>
          <p:nvPr/>
        </p:nvGrpSpPr>
        <p:grpSpPr>
          <a:xfrm>
            <a:off x="1187280" y="1628640"/>
            <a:ext cx="7291440" cy="4525920"/>
            <a:chOff x="1187280" y="1628640"/>
            <a:chExt cx="7291440" cy="4525920"/>
          </a:xfrm>
        </p:grpSpPr>
        <p:pic>
          <p:nvPicPr>
            <p:cNvPr id="153" name="Chart 3" descr=""/>
            <p:cNvPicPr/>
            <p:nvPr/>
          </p:nvPicPr>
          <p:blipFill>
            <a:blip r:embed="rId2"/>
            <a:stretch/>
          </p:blipFill>
          <p:spPr>
            <a:xfrm>
              <a:off x="1187280" y="1628640"/>
              <a:ext cx="729144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Oval 3"/>
            <p:cNvSpPr/>
            <p:nvPr/>
          </p:nvSpPr>
          <p:spPr>
            <a:xfrm>
              <a:off x="4839120" y="3923640"/>
              <a:ext cx="190080" cy="1870200"/>
            </a:xfrm>
            <a:custGeom>
              <a:avLst/>
              <a:gdLst>
                <a:gd name="textAreaLeft" fmla="*/ 27720 w 190080"/>
                <a:gd name="textAreaRight" fmla="*/ 162360 w 190080"/>
                <a:gd name="textAreaTop" fmla="*/ 273600 h 1870200"/>
                <a:gd name="textAreaBottom" fmla="*/ 1596600 h 1870200"/>
              </a:gdLst>
              <a:ahLst/>
              <a:rect l="textAreaLeft" t="textAreaTop" r="textAreaRight" b="textAreaBottom"/>
              <a:pathLst>
                <a:path w="215012" h="1871661">
                  <a:moveTo>
                    <a:pt x="0" y="935830"/>
                  </a:moveTo>
                  <a:lnTo>
                    <a:pt x="0" y="935830"/>
                  </a:lnTo>
                  <a:arcTo wR="107506" hR="935830" stAng="10800000" swAng="0"/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sp>
        <p:nvSpPr>
          <p:cNvPr id="155" name="TextBox 5"/>
          <p:cNvSpPr/>
          <p:nvPr/>
        </p:nvSpPr>
        <p:spPr>
          <a:xfrm>
            <a:off x="1008000" y="6308640"/>
            <a:ext cx="437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Source: the European Commission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60344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10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A142-1BA7-4639-A799-8A8FBDD63ACB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58" name="Diagram 4"/>
          <p:cNvGrpSpPr/>
          <p:nvPr/>
        </p:nvGrpSpPr>
        <p:grpSpPr>
          <a:xfrm>
            <a:off x="539640" y="1785960"/>
            <a:ext cx="8209080" cy="4510080"/>
            <a:chOff x="539640" y="1785960"/>
            <a:chExt cx="8209080" cy="4510080"/>
          </a:xfrm>
        </p:grpSpPr>
        <p:sp>
          <p:nvSpPr>
            <p:cNvPr id="159" name="Freeform 4"/>
            <p:cNvSpPr/>
            <p:nvPr/>
          </p:nvSpPr>
          <p:spPr>
            <a:xfrm>
              <a:off x="539640" y="1785960"/>
              <a:ext cx="2502720" cy="691200"/>
            </a:xfrm>
            <a:prstGeom prst="pi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99080" tIns="113760" bIns="113760" anchor="ctr" anchorCtr="1">
              <a:norm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1243080"/>
                  <a:tab algn="l" pos="2486160"/>
                  <a:tab algn="l" pos="3728880"/>
                  <a:tab algn="l" pos="4971960"/>
                  <a:tab algn="l" pos="6215040"/>
                  <a:tab algn="l" pos="7458120"/>
                  <a:tab algn="l" pos="8701200"/>
                  <a:tab algn="l" pos="9944280"/>
                </a:tabLst>
              </a:pPr>
              <a:r>
                <a:rPr b="1" lang="en-US" sz="1800" spc="-1" strike="noStrike">
                  <a:solidFill>
                    <a:srgbClr val="17375e"/>
                  </a:solidFill>
                  <a:latin typeface="Calibri"/>
                  <a:ea typeface="Arial"/>
                </a:rPr>
                <a:t>www.latvija.lv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0" name="Freeform 5"/>
            <p:cNvSpPr/>
            <p:nvPr/>
          </p:nvSpPr>
          <p:spPr>
            <a:xfrm>
              <a:off x="539640" y="2476440"/>
              <a:ext cx="2503440" cy="3819600"/>
            </a:xfrm>
            <a:prstGeom prst="pie">
              <a:avLst/>
            </a:prstGeom>
            <a:solidFill>
              <a:srgbClr val="d2dee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eb site for state services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thorization </a:t>
              </a:r>
              <a:r>
                <a:rPr b="0" lang="lv-LV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ia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net banks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cess on individual accounts of NDC &amp; FDC 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lv-LV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nsion calculator (only NDC)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3392640" y="1785960"/>
              <a:ext cx="2502720" cy="691200"/>
            </a:xfrm>
            <a:prstGeom prst="pi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81360" bIns="81360" anchor="ctr" anchorCtr="1">
              <a:normAutofit/>
            </a:bodyPr>
            <a:p>
              <a:pPr algn="ctr">
                <a:lnSpc>
                  <a:spcPct val="90000"/>
                </a:lnSpc>
                <a:spcAft>
                  <a:spcPts val="799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US" sz="1800" spc="-1" strike="noStrike">
                  <a:solidFill>
                    <a:srgbClr val="17375e"/>
                  </a:solidFill>
                  <a:latin typeface="Calibri"/>
                  <a:ea typeface="Arial"/>
                </a:rPr>
                <a:t>www.manapensija.lv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2" name="Freeform 7"/>
            <p:cNvSpPr/>
            <p:nvPr/>
          </p:nvSpPr>
          <p:spPr>
            <a:xfrm>
              <a:off x="3392640" y="2477160"/>
              <a:ext cx="2502720" cy="3818880"/>
            </a:xfrm>
            <a:prstGeom prst="pie">
              <a:avLst/>
            </a:prstGeom>
            <a:solidFill>
              <a:srgbClr val="d2dee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rmAutofit/>
            </a:bodyPr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nsion system description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illar II and Pillar III investment results on daily and monthly basis 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nsion calculator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3" name="Freeform 8"/>
            <p:cNvSpPr/>
            <p:nvPr/>
          </p:nvSpPr>
          <p:spPr>
            <a:xfrm>
              <a:off x="6246000" y="1785960"/>
              <a:ext cx="2502720" cy="691200"/>
            </a:xfrm>
            <a:prstGeom prst="pi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 anchorCtr="1">
              <a:norm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1800" spc="-1" strike="noStrike">
                  <a:solidFill>
                    <a:srgbClr val="17375e"/>
                  </a:solidFill>
                  <a:latin typeface="Calibri"/>
                  <a:ea typeface="Arial"/>
                </a:rPr>
                <a:t>www.bankasoc.lv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64" name="Freeform 9"/>
            <p:cNvSpPr/>
            <p:nvPr/>
          </p:nvSpPr>
          <p:spPr>
            <a:xfrm>
              <a:off x="6246000" y="2477160"/>
              <a:ext cx="2502720" cy="3818880"/>
            </a:xfrm>
            <a:prstGeom prst="pie">
              <a:avLst/>
            </a:prstGeom>
            <a:solidFill>
              <a:srgbClr val="d2dee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rmAutofit/>
            </a:bodyPr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illar II and Pillar III quarterly pension data and investment results</a:t>
              </a: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1494000" y="268200"/>
            <a:ext cx="6175080" cy="207828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972A-7277-48AA-8568-CD8910F0921B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143000" y="1989000"/>
            <a:ext cx="6858000" cy="442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15236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3" descr=""/>
          <p:cNvPicPr/>
          <p:nvPr/>
        </p:nvPicPr>
        <p:blipFill>
          <a:blip r:embed="rId2"/>
          <a:stretch/>
        </p:blipFill>
        <p:spPr>
          <a:xfrm>
            <a:off x="450720" y="1511280"/>
            <a:ext cx="8285400" cy="462132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AF24-47B0-4638-AEE1-24E5ED5C491E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469800" y="-244440"/>
            <a:ext cx="8229600" cy="1603440"/>
          </a:xfrm>
          <a:prstGeom prst="rect">
            <a:avLst/>
          </a:prstGeom>
          <a:ln w="0">
            <a:noFill/>
          </a:ln>
        </p:spPr>
      </p:pic>
      <p:pic>
        <p:nvPicPr>
          <p:cNvPr id="169" name="Content Placeholder 3" descr=""/>
          <p:cNvPicPr/>
          <p:nvPr/>
        </p:nvPicPr>
        <p:blipFill>
          <a:blip r:embed="rId2"/>
          <a:stretch/>
        </p:blipFill>
        <p:spPr>
          <a:xfrm>
            <a:off x="954000" y="1700280"/>
            <a:ext cx="6878880" cy="458784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B392-46B4-453B-99EE-8B05AE765FC7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14360" y="1847880"/>
            <a:ext cx="8229600" cy="159696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26D2-2E09-4D46-A2EA-7FDDF3E256A9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268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"/>
          <p:cNvPicPr/>
          <p:nvPr/>
        </p:nvPicPr>
        <p:blipFill>
          <a:blip r:embed="rId2"/>
          <a:stretch/>
        </p:blipFill>
        <p:spPr>
          <a:xfrm>
            <a:off x="450720" y="1420920"/>
            <a:ext cx="8291520" cy="471168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9ECA-EC1D-477D-9C05-1B073B998EC0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643280" y="4797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Palatino Linotype"/>
                <a:ea typeface="Arial"/>
              </a:rPr>
              <a:t>earmarked for the public old-age pensions:</a:t>
            </a:r>
            <a:r>
              <a:rPr b="1" lang="lv-LV" sz="1800" spc="-1" strike="noStrike">
                <a:solidFill>
                  <a:srgbClr val="ff0000"/>
                </a:solidFill>
                <a:latin typeface="Palatino Linotype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Palatino Linotype"/>
                <a:ea typeface="Arial"/>
              </a:rPr>
              <a:t>20% of wag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4211640" y="4653000"/>
            <a:ext cx="4537080" cy="1152360"/>
          </a:xfrm>
          <a:prstGeom prst="ellipse">
            <a:avLst/>
          </a:prstGeom>
          <a:noFill/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06020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3" descr=""/>
          <p:cNvPicPr/>
          <p:nvPr/>
        </p:nvPicPr>
        <p:blipFill>
          <a:blip r:embed="rId2"/>
          <a:stretch/>
        </p:blipFill>
        <p:spPr>
          <a:xfrm>
            <a:off x="450720" y="1566720"/>
            <a:ext cx="8291520" cy="4565880"/>
          </a:xfrm>
          <a:prstGeom prst="rect">
            <a:avLst/>
          </a:prstGeom>
          <a:ln w="0">
            <a:noFill/>
          </a:ln>
        </p:spPr>
      </p:pic>
      <p:sp>
        <p:nvSpPr>
          <p:cNvPr id="109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D134-A7CF-4F3A-95E1-441FE8F259F9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3" descr=""/>
          <p:cNvPicPr/>
          <p:nvPr/>
        </p:nvPicPr>
        <p:blipFill>
          <a:blip r:embed="rId1"/>
          <a:stretch/>
        </p:blipFill>
        <p:spPr>
          <a:xfrm>
            <a:off x="353880" y="128520"/>
            <a:ext cx="8448840" cy="51120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4" descr=""/>
          <p:cNvPicPr/>
          <p:nvPr/>
        </p:nvPicPr>
        <p:blipFill>
          <a:blip r:embed="rId2"/>
          <a:stretch/>
        </p:blipFill>
        <p:spPr>
          <a:xfrm>
            <a:off x="884160" y="1609560"/>
            <a:ext cx="7418520" cy="379116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1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793B-579F-41E3-B407-4D6CE16D7698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396720" y="-1713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D41E-282D-4D43-86DD-E5776DD20F61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68280" y="1413000"/>
            <a:ext cx="835344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95560"/>
          </a:xfrm>
          <a:prstGeom prst="rect">
            <a:avLst/>
          </a:prstGeom>
          <a:ln w="0">
            <a:noFill/>
          </a:ln>
        </p:spPr>
      </p:pic>
      <p:pic>
        <p:nvPicPr>
          <p:cNvPr id="118" name="Content Placeholder 4" descr=""/>
          <p:cNvPicPr/>
          <p:nvPr/>
        </p:nvPicPr>
        <p:blipFill>
          <a:blip r:embed="rId2"/>
          <a:stretch/>
        </p:blipFill>
        <p:spPr>
          <a:xfrm>
            <a:off x="841320" y="1238400"/>
            <a:ext cx="8326440" cy="54435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05F9-F261-48EC-97C3-71A98F0B1675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95560"/>
          </a:xfrm>
          <a:prstGeom prst="rect">
            <a:avLst/>
          </a:prstGeom>
          <a:ln w="0">
            <a:noFill/>
          </a:ln>
        </p:spPr>
      </p:pic>
      <p:pic>
        <p:nvPicPr>
          <p:cNvPr id="121" name="Content Placeholder 4" descr=""/>
          <p:cNvPicPr/>
          <p:nvPr/>
        </p:nvPicPr>
        <p:blipFill>
          <a:blip r:embed="rId2"/>
          <a:stretch/>
        </p:blipFill>
        <p:spPr>
          <a:xfrm>
            <a:off x="554040" y="1365120"/>
            <a:ext cx="8437680" cy="549288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B906-93D5-4CF7-9B0C-77C7924ADEEB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D3D8-A3B0-49D8-8C1E-5916D70CCFDC}" type="slidenum">
              <a:rPr b="0" lang="lv-LV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624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16:24:34Z</dcterms:created>
  <dc:creator>Jana Muizniece</dc:creator>
  <dc:description/>
  <dc:language>en-US</dc:language>
  <cp:lastModifiedBy>Krista Brantevica</cp:lastModifiedBy>
  <dcterms:modified xsi:type="dcterms:W3CDTF">2014-12-18T05:34:47Z</dcterms:modified>
  <cp:revision>14</cp:revision>
  <dc:subject/>
  <dc:title>Pension system under demographic and macroeconomic changes in Latvia</dc:title>
</cp:coreProperties>
</file>